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E294-3DE3-419E-8C31-43AECDB4D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8DD3-C309-4E6D-B862-42AD500A0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B211-1BF0-4800-B283-07AE4854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lassconnection.s3.amazonaws.com/558/flashcards/183558/jpg/picture2132932371366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03EE-834F-4C5E-A96B-1847ADF2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DBEC-8B1B-444A-8F8E-E62CF89C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839-41F8-48D3-9593-DC3668C09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2899-23DE-471D-ABB0-EE29BD4A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43C4-1E56-4ECD-BC06-77A87D1F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siselinternational.com/?p=1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894-91F7-40E0-8154-C3B3050C1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A660-FFDC-4683-8C93-A5E3660C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istones have +ve charg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CD7C-7F79-48A6-9100-4CEFC212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69FF-3787-483F-9999-29CB15F7D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imation: https://www.youtube.com/watch?v=xl8ply4A7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83C9-69D2-4D0A-9AC1-A0D3D7315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2127-5E35-4B55-A43A-305B4098F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0511-B69C-4119-9020-F4CAD6CB7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4D25-895A-4E04-96A0-D32BBA902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21F-3930-4A2B-861D-255C2331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192-5E63-4759-869B-347FD123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E11-A008-4439-A15B-EA1B54DA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449-A0B4-412B-8235-63249F3E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16E-8024-4D4B-98E8-31B85D39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0B5-9037-41FB-A9A7-D20C5AB2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4B4-1E8C-4C78-B3D1-93508888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349-26F4-4850-BACC-E6C1FC5A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B5A-B8EE-49DE-96E3-28B9B3A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BCC-3949-48A2-82BC-0B0A9599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728-82CB-4050-BE41-D02C239B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08B-775F-4CF4-A306-4A9374D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142D-8F15-4C1F-8675-EE8AA9339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l8ply4A7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 Shor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5" descr="picture21329323713661.jpg"/>
          <p:cNvPicPr/>
          <p:nvPr/>
        </p:nvPicPr>
        <p:blipFill>
          <a:blip r:embed="rId1"/>
          <a:srcRect l="-24010" t="0" r="-24010" b="0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in a cel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ifespan when it loses the ability to divide &amp;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olly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 that adds more DNA to shortening telom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germ line cells, stem cells, certain white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produce large quantity of tel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ti-aging-for-skin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 Walker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Aging Now TS-X Telomere Suppleme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TS-X-square1"/>
          <p:cNvPicPr/>
          <p:nvPr/>
        </p:nvPicPr>
        <p:blipFill>
          <a:blip r:embed="rId1"/>
          <a:stretch/>
        </p:blipFill>
        <p:spPr>
          <a:xfrm>
            <a:off x="2517840" y="198108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hrom1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hromosome_structure"/>
          <p:cNvPicPr/>
          <p:nvPr/>
        </p:nvPicPr>
        <p:blipFill>
          <a:blip r:embed="rId2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that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&amp; 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Telomere_image-prv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chromosomes from degradation, fusing to other chromosomes, assist in DNA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5-11-11T19:40:31Z</dcterms:modified>
  <cp:revision>85</cp:revision>
  <dc:subject/>
  <dc:title>Molecular Genetics</dc:title>
</cp:coreProperties>
</file>